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0C4D5-972E-4728-B007-E63F776D8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42B0A-733E-4767-B18A-B1F1ABD68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F8566-4A94-4B1F-872E-389A7A389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34117-0E0E-40B6-8678-6B2D52207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747B9-9E8B-4231-9A71-F0A4F5B18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CAEFE-2405-48C3-8DCD-6B747E2D7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5A2BC-5C80-4EA5-B770-132A49B69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A0096-F66A-483E-B3FB-1CFBD45C6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621B9-849C-40B1-A03C-7C84F5121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BB7CC-0059-4D7D-9841-54CE85D5B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29070-70AE-4D8A-AA39-6EECABFEC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B13F3-8E15-4DDA-84F5-96E334EE6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36F4-03AA-4697-9496-11E8C8FBBC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le:HideoNomo.pn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Ichiro_Cropped_AL.jpg" TargetMode="External"/><Relationship Id="rId2" Type="http://schemas.openxmlformats.org/officeDocument/2006/relationships/image" Target="../media/image3.jpeg"/><Relationship Id="rId3" Type="http://schemas.openxmlformats.org/officeDocument/2006/relationships/hyperlink" Target="http://en.wikipedia.org/wiki/File:Hideki_Matsui_tips_hat.jpg" TargetMode="External"/><Relationship Id="rId4" Type="http://schemas.openxmlformats.org/officeDocument/2006/relationships/image" Target="../media/image4.jpeg"/><Relationship Id="rId5" Type="http://schemas.openxmlformats.org/officeDocument/2006/relationships/hyperlink" Target="http://en.wikipedia.org/wiki/File:Tsuyoshi_Nishioka_2010.JPG" TargetMode="External"/><Relationship Id="rId6" Type="http://schemas.openxmlformats.org/officeDocument/2006/relationships/image" Target="../media/image5.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panese Baseball Play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aron B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Fact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44 players from Japan who have played in the maj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13 active p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31 inactive or retired p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Japanese players who come over are pitc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ese middle-infielders have not had much success in ML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s for watching!</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MeIPslOqs3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Japanese Baseball</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ball is one of the most popular sports in Japan. It was introduced to Japan in 1872 by Horace Wilson, who taught at the Kaisei School in Tokyo. The first baseball team was called the Shimbashi Athletic Club and was created in 187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en-US" sz="4400" spc="-1" strike="noStrike" baseline="30000">
                <a:solidFill>
                  <a:srgbClr val="000000"/>
                </a:solidFill>
                <a:latin typeface="Arial"/>
              </a:rPr>
              <a:t>st</a:t>
            </a:r>
            <a:r>
              <a:rPr b="0" lang="en-US" sz="4400" spc="-1" strike="noStrike">
                <a:solidFill>
                  <a:srgbClr val="000000"/>
                </a:solidFill>
                <a:latin typeface="Arial"/>
              </a:rPr>
              <a:t> Japanese player in U.S.</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amori Murakami was the first Japanese baseball player to play in the U.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played for the San Francisco Giants for just over 1 seas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debuted on September 1, 1964. His last major league appearance on October 1, 1965.</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actually had some success here with a career ERA of 3.43 in his MLB care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 he is folk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685800" y="2133720"/>
            <a:ext cx="8001000" cy="396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deo Nom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as the second Japanese player to play in ML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had a very successful MLB career spanning 13 MLB sea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career highlights feature rookie of the year in 1995. Plus throwing two no-hitters in both 1996 and 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deo Nomo everybod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HideoNomo.png">
            <a:hlinkClick r:id="rId1"/>
          </p:cNvPr>
          <p:cNvPicPr/>
          <p:nvPr/>
        </p:nvPicPr>
        <p:blipFill>
          <a:blip r:embed="rId2"/>
          <a:stretch/>
        </p:blipFill>
        <p:spPr>
          <a:xfrm>
            <a:off x="457200" y="18288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hiro/Hedeki Matsui</a:t>
            </a:r>
            <a:endParaRPr b="0" lang="en-US" sz="4400" spc="-1" strike="noStrike">
              <a:solidFill>
                <a:srgbClr val="000000"/>
              </a:solidFill>
              <a:latin typeface="Arial"/>
            </a:endParaRPr>
          </a:p>
        </p:txBody>
      </p:sp>
      <p:sp>
        <p:nvSpPr>
          <p:cNvPr id="56"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hiro sighed with the Seattle Mariners in 2001 and has played greatly with them ever si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has the record for most hits in a single season at 256. In 2001 he received MVP and rookie of the year award in the same ye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deki Matsui a.k.a. “Godzilla”. Has played in the Majors since and has had similar success, although his power is f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yoshi Nishiok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last offseason the Twins outbid every other team for the right to negotiate on a contract with h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later agreed on a three year deal worth 9.75 million doll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10 days after making his debut, Nishioka broke his fibula trying to turn a double 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Ichiro Cropped AL.jpg">
            <a:hlinkClick r:id="rId1"/>
          </p:cNvPr>
          <p:cNvPicPr/>
          <p:nvPr/>
        </p:nvPicPr>
        <p:blipFill>
          <a:blip r:embed="rId2"/>
          <a:stretch/>
        </p:blipFill>
        <p:spPr>
          <a:xfrm>
            <a:off x="380880" y="1600200"/>
            <a:ext cx="3124440" cy="4962600"/>
          </a:xfrm>
          <a:prstGeom prst="rect">
            <a:avLst/>
          </a:prstGeom>
          <a:ln w="0">
            <a:noFill/>
          </a:ln>
        </p:spPr>
      </p:pic>
      <p:pic>
        <p:nvPicPr>
          <p:cNvPr id="62" name="" descr="Hideki Matsui tips hat.jpg">
            <a:hlinkClick r:id="rId3"/>
          </p:cNvPr>
          <p:cNvPicPr/>
          <p:nvPr/>
        </p:nvPicPr>
        <p:blipFill>
          <a:blip r:embed="rId4"/>
          <a:stretch/>
        </p:blipFill>
        <p:spPr>
          <a:xfrm>
            <a:off x="3505320" y="1600200"/>
            <a:ext cx="2381040" cy="4952880"/>
          </a:xfrm>
          <a:prstGeom prst="rect">
            <a:avLst/>
          </a:prstGeom>
          <a:ln w="0">
            <a:noFill/>
          </a:ln>
        </p:spPr>
      </p:pic>
      <p:pic>
        <p:nvPicPr>
          <p:cNvPr id="63" name="" descr="Tsuyoshi Nishioka 2010.JPG">
            <a:hlinkClick r:id="rId5"/>
          </p:cNvPr>
          <p:cNvPicPr/>
          <p:nvPr/>
        </p:nvPicPr>
        <p:blipFill>
          <a:blip r:embed="rId6"/>
          <a:stretch/>
        </p:blipFill>
        <p:spPr>
          <a:xfrm>
            <a:off x="5867280" y="1600200"/>
            <a:ext cx="3276720" cy="501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2T21:53:22Z</dcterms:created>
  <dc:creator>Bible</dc:creator>
  <dc:description/>
  <dc:language>en-US</dc:language>
  <cp:lastModifiedBy>Bible</cp:lastModifiedBy>
  <dcterms:modified xsi:type="dcterms:W3CDTF">2011-04-22T23:06:32Z</dcterms:modified>
  <cp:revision>3</cp:revision>
  <dc:subject/>
  <dc:title>Japanese Baseball Players</dc:title>
</cp:coreProperties>
</file>